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A3B-5729-4420-906D-00F18474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607-4650-4FA8-AFF9-49D30759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D23-C556-45DF-A1EA-10F19BCF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578-A70D-465E-B1C3-89238458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82D-8724-44D4-8045-F97061BA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EDC-5AFC-410C-ADF8-4D5EA9BF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2D9-25E7-4A25-8F3B-950E8807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2C7-2FC3-4C87-8E90-9E64CDEA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F44-6DAD-4449-834F-54922B93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A90-2E3B-4868-AA66-ACE68EE1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4A1-A62F-46B2-8402-BA295363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B5F-9538-46F1-ACB6-B559D892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C35B-D95A-4161-A6A1-7D65DCD8F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57680" y="25560"/>
            <a:ext cx="6286320" cy="6832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743200" cy="83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أنك حملتَ العالم وأعطيتَهُ الحيا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آتي إلي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أتذوق للأبد من فيض سلامِك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آتي 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ي أحبكَ آتي إلي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146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981080" y="54100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154400" y="0"/>
            <a:ext cx="4989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380880"/>
            <a:ext cx="3962160" cy="83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أني أريد الارتواء من عذوبةِ مياهِ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آتي إلي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أني صرتُ مستعداً لترتاحَ في نفس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آتي إليك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8088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ي أحبكَ آتي إلي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1468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981080" y="54100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2514600" cy="83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أنك تشفي المريض وتستقبلُ الضال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آتي إليك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أني أؤمن بك وبمشيئت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آتي 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8088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ي أحبكَ آتي إلي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1468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981080" y="54100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80880"/>
            <a:ext cx="26668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أهديك فرحي وحزني لأجل حصادي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آتي إلي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أنك حبيبُ نفسي ورفيقي وملك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آتي إلي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2666880" cy="84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هديك فرحي وحزني لأجل حصّاديك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آتي إليك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حبيبُ نفسي ورفيقي ومل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آتي إلي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8088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ي أحبكَ آتي إلي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1468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81080" y="54100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9:55:04Z</dcterms:created>
  <dc:creator>SUZANNE.MD</dc:creator>
  <dc:description/>
  <dc:language>en-US</dc:language>
  <cp:lastModifiedBy>HANI SAFI</cp:lastModifiedBy>
  <dcterms:modified xsi:type="dcterms:W3CDTF">2003-05-22T17:00:41Z</dcterms:modified>
  <cp:revision>3</cp:revision>
  <dc:subject/>
  <dc:title>PowerPoint Presentation</dc:title>
</cp:coreProperties>
</file>